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C367-0BFD-4242-A001-481D176D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ol slidde isnt it nickkkkkky boyyyyyyyyyyyyyyyyyyyyyyyy haha          whats up mitchayyyyyyyyyyy buoyyyyyyyyyyyyyyyyyyyyyyyyyyyyyyyyyyyyyyyyyy !@#$%^&amp;!@#$%^  ewr nicky buoyyyyy hasdsadds nniicckkyy bbuuooyy haha nicky buoy yeh bouyyyyyyyyyyyyyyyyyyy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7E4B-C94A-4771-8408-49A6E8BB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AD7E-DA34-4247-ABFC-4FC7CA38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9068-7453-4601-800F-A0312D46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2F9C-3C48-459D-A669-E21EB9BA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974-81D8-40D2-ADBB-AB2653D6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EFB3-2887-44A7-98F8-5053D6D3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BAC5-09EE-40AD-92E3-63F6B44B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74CF-C4DA-45EC-9699-C5201FB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C5E7-566F-45FC-871F-2FA0692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0E7-E8A2-4746-874A-E1A4E9F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E562-EFA6-4606-9534-11384A3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B168-8076-46FE-9E6E-C38F5A4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7F25-F7DC-43DF-895A-F42528A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681-1BD3-4BA0-AF84-2C02471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C51E-8B35-4F89-A001-8321A37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DC17-A2DD-4B88-B437-9039CCD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484-418E-47AB-998F-93860D30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3AB7-B75A-4E34-B139-99CE5F6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9460-AAC9-4CFD-9AED-53AC1C66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D4A4-3194-4A87-BCBD-F438E12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D19F-4EEB-41F2-B9A8-7CE4A15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283E-DA3C-4425-97CB-16094FA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087F-1166-4A75-AFF5-943A07D9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CFB6-23AE-4A11-A47B-FFC8750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88D-3AAE-45FA-A266-A24A23DFA4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E5E-09D3-43EA-A314-FFF24D3D53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red O’Br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8800" y="5652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0492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l Desayu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533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e gusto como  El Ce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3434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Yo como El Hue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6483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bebeo El Café De So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743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Me gusto bebo Los Ju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5410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uso El Tene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81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Yo uso El Cuch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como un bu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ñe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914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Me gusto como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Yo como le pan tos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Yo como Los fre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2338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95480" y="5335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El Amuerz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76720" y="4419720"/>
            <a:ext cx="2243160" cy="256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791320" y="228600"/>
            <a:ext cx="3352680" cy="267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2374800">
            <a:off x="608400" y="51051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Me gusto una hamburgu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945200">
            <a:off x="3581280" y="38858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Yo como los papas fri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197000">
            <a:off x="6248160" y="2971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Me bebo una Coca Co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535880" y="4495680"/>
            <a:ext cx="1827360" cy="236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960200">
            <a:off x="5867280" y="59432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Me gusto papi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93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895480" cy="218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95480" y="5029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19520" cy="20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24080" y="228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Rockwell Extra Bold"/>
              </a:rPr>
              <a:t>La C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635600">
            <a:off x="2895480" y="403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Me gusto una ensel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2438280"/>
            <a:ext cx="1486080" cy="25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bebo una Mountain D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487400">
            <a:off x="3200040" y="4568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Yo como papa al ho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297400">
            <a:off x="6553080" y="266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la bift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os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4019400"/>
            <a:ext cx="1581120" cy="2838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858600">
            <a:off x="1676160" y="6095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Como un helado de sunda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38920" y="5318280"/>
            <a:ext cx="2305080" cy="1539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9587600">
            <a:off x="6324840" y="4495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pastel de manz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3:30Z</dcterms:created>
  <dc:creator>obrienjar</dc:creator>
  <dc:description/>
  <dc:language>en-US</dc:language>
  <cp:lastModifiedBy>obrienjar</cp:lastModifiedBy>
  <dcterms:modified xsi:type="dcterms:W3CDTF">2012-04-05T17:10:59Z</dcterms:modified>
  <cp:revision>4</cp:revision>
  <dc:subject/>
  <dc:title>Las Comidas</dc:title>
</cp:coreProperties>
</file>